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AB5-5ADA-45C0-9321-D6D7B14A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F64-C4E7-45E5-B6C7-328B92E4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0B5-6FE7-4C13-8A44-D06588D5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BCC-487F-4207-A7A5-E06E2938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01F-D5DC-473F-AB8E-0F4B36AB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4BE-EEA9-4C36-BC39-CB256825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303-C359-4885-89E2-E7C36979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3E6-A041-4947-9582-0DA9689F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030-E131-42E8-ACF8-7E4EAB01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DB8-694D-4A54-AE0C-9FEEFF6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620-3766-4EC0-B9B7-66649A0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477-146D-4DB3-9AF7-E54ED7F3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C61B-557E-493D-B7FA-42D922CA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mazon.com/gp/product/images/B001I8A34Q/ref=dp_image_0/186-5769071-4149634?ie=UTF8&amp;n=3367581&amp;s=jewelry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 rot="10800000">
            <a:off x="6764400" y="5277240"/>
            <a:ext cx="10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253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nny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Rendered Image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96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339600">
            <a:off x="914040" y="1905120"/>
            <a:ext cx="381492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2438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3276720"/>
            <a:ext cx="3429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sconsin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20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380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ol: 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5,686,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union: M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848,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Badger state/ America’s dairy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Wood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R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On Wiscon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Long r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s: Wisconsin's gemstone is Ruby. Georgia O'Keeffe, the artist was born there. There are various activities such as dog sledding, canoeing and ski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667 0.05549 L 5E-006 -3.98844E-006 E">
                                      <p:cBhvr>
                                        <p:cTn id="7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1.95 cttw Original Star K(tm) Lab Created Heart Shaped Ruby Pendant in .925 Sterling Silver">
            <a:hlinkClick r:id="rId1"/>
          </p:cNvPr>
          <p:cNvPicPr/>
          <p:nvPr/>
        </p:nvPicPr>
        <p:blipFill>
          <a:blip r:embed="rId2"/>
          <a:stretch/>
        </p:blipFill>
        <p:spPr>
          <a:xfrm rot="340800">
            <a:off x="1371240" y="304920"/>
            <a:ext cx="4419720" cy="425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629400" y="457200"/>
            <a:ext cx="2057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, Ruby Gemstone, March 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amazon.com/Original-Star-Created-Shaped-Pendant/dp/B006FPUWZM%3FSubscriptionId%3D083MT9Z7SZY8WMM3T082%26tag%3Djewlerymall%26linkCode%3Dsp1%26camp%3D2025%26creative%3D165953%26creativeASIN%3DB006FPUWZ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9760" y="5029200"/>
            <a:ext cx="78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icture shows the beautiful gemstone of Wiscons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Ru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5790960" cy="38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600200" y="152280"/>
            <a:ext cx="5638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Oklahoma, Wisconsin flag, March 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808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w.ou.edu/ushistory/flags/wifla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334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icture shows the flag of Wisconsin, with the year the state entered the union, 18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 Capitol dome"/>
          <p:cNvPicPr/>
          <p:nvPr/>
        </p:nvPicPr>
        <p:blipFill>
          <a:blip r:embed="rId1"/>
          <a:stretch/>
        </p:blipFill>
        <p:spPr>
          <a:xfrm>
            <a:off x="1371600" y="12952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228600"/>
            <a:ext cx="571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 America through Postcards, Madison Wisconsin, March 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postcardsfrom.com/t1/98062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6095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very large capitol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8Z</dcterms:created>
  <dc:creator>install</dc:creator>
  <dc:description/>
  <dc:language>en-US</dc:language>
  <cp:lastModifiedBy>install</cp:lastModifiedBy>
  <dcterms:modified xsi:type="dcterms:W3CDTF">2012-04-16T13:06:44Z</dcterms:modified>
  <cp:revision>12</cp:revision>
  <dc:subject/>
  <dc:title>Slide 1</dc:title>
</cp:coreProperties>
</file>